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E90-AD0E-4C50-B39B-40BCE77E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E78-C93B-4468-87AC-79B22403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F3F-D823-4B86-A429-6C367A45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063-CABF-4F47-B84F-E407DDA7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004-3D72-451D-8A32-C1D7B400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4B2-E6F2-4FA9-A037-EFB2820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C717-5F8E-42D8-ACDB-EA0D118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80C8-7BB4-424F-903E-993CB89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F50C-1C54-47BA-BA8B-0FD8532C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EDD9-3A96-4C28-88E9-480B4276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8CC6-772A-42DE-962A-1E78211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98B-FDE0-4244-9883-6DB94A4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5646-BB71-4D04-84FD-424A9A65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3BC2-0A34-4B24-A544-C8D378F7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B83A-FB63-4701-A8B5-F75D2CF4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6DE0-669B-4C3F-A902-06E57E6A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2811-B500-4EFD-B452-2F7CD83E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F25-853B-4070-9909-D4C70D40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483-2699-40E5-AFA2-37CDB523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F25-F15B-4868-A860-4106CCC9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9C9-A815-498B-A604-0BD977E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9BC-9D80-4972-97C7-3090596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1B0-199B-4BA2-8A8A-04B4349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40D-5E57-4E3F-8842-05ED78D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5D74-E7CC-44D4-92FD-36733714AD3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8B6A-338C-4E0D-BF28-EC5DF3106BF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lassroom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alsh (200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the topic of discu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often control both content and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who may participate and w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udents take their cues from the teac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sk questions to which they know the answer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talk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modify their talk to lear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re responsible for managing the interaction that occ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ers’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(recitation) vs. dialogic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Mono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leads to an ‘authoritative discourse’ in which the teacher delivers a set of pre-packaged knowledge (Skidmore, 20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Dia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offers an ‘emancipatory alternative’ (Lyle, 1998) so that knowledge is co-constructed and students’ experiences and interpretations are valued and explo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no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sel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ignores attempts by learners to introduce other top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responses tend to be sh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ually there is only one correct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Nystrand, 199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s of IR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’s the boy do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’ moves in natural conver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ancis and Hunston (1992) classify f move in terms of function e.g. ‘terminating’ or ‘endorsing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gre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ver mi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a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urns are evenly distributed between spea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takes fewer tu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F not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 responses build on previous students’ responses (‘chained’ Gutierrez, 199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s self-se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and students negotiate sub-topics for discu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s exist for which there are no pre-specified correct answ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Nystrand, 2007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nalysing Classroom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dentify IRF pa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at kinds of questions does the teacher a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o controls the tal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or dialogic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omment on the quality of the teacher’s tal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u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ullen lists 5 effective feedback mo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Elab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Com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pet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sponsiv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Arial"/>
              </a:rPr>
              <a:t>What does each mean and do you agree it is effectiv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planfm</cp:lastModifiedBy>
  <dcterms:modified xsi:type="dcterms:W3CDTF">2009-11-12T13:40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